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CC6-8FA6-43B9-B2C1-A3AD31AF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F20-1863-456F-8AAF-68DDB196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F55-ECD3-4368-93F3-3B4A2876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96C-BBCF-4151-898C-78050F3D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A2AA-6A9E-48FF-9B77-FAD31E9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C06-67A7-4DB8-A650-B455316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E735-49D6-4921-ACA3-40196C26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63B4-3F90-4D40-98CC-9B20D684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21D-7F32-4F48-BD57-5E18472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07C-CD08-411B-8499-A924AB0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CD33-5164-483E-9D0C-8265E62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CC7-35F9-487E-90F9-81AD999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0EC-1938-4E6B-8CED-9BA83F2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82B1-DFE9-449E-A356-2373E86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914-8D1D-4FEE-8357-7AFFF7A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DF9-22FF-4D39-B382-08D570C4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3A7-4087-48E5-A881-3C73BE2E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590-AC85-458D-B0F8-9CA2B3A9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92C-CA9B-4210-A1C7-296E4D42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CE3-3E33-4A60-A74E-F449F05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F95-99C8-4416-844B-2B453A2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ADA-6290-4FE5-84E2-C8BD845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4C6-25D5-45FE-A90F-0300265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C41-3FDC-4CEC-A895-CE7833EA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CA7-B727-40DB-913D-6B2BE4FB20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B7A-64C5-4D74-B3E7-0934B5E0261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lish Day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unio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riting assign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c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 8/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writing 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ook at the following image and create a story that takes place there. Your story must follow the gothic tradition, make it creepy and scary. You must use one example of personific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 will be looking at your descriptive sentences and if you added gothic element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5:03:53Z</dcterms:created>
  <dc:creator>VMS</dc:creator>
  <dc:description/>
  <dc:language>en-US</dc:language>
  <cp:lastModifiedBy>VMS</cp:lastModifiedBy>
  <dcterms:modified xsi:type="dcterms:W3CDTF">2009-08-27T19:46:07Z</dcterms:modified>
  <cp:revision>2</cp:revision>
  <dc:subject/>
  <dc:title>English Day 8</dc:title>
</cp:coreProperties>
</file>